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05E1B-26F6-4791-9BE1-0B2CADFE8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369DC-2250-4D9E-8C5D-8508D3FC5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38B5E-7035-4AAC-ADC6-B66E627F4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90DFA-338E-4267-9E6E-4CA3FD3B1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99E8C-C9AE-47E1-9574-2969F9E7C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BA75-02F8-4D99-A3DE-88930F48B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818A3-0676-4CEE-BBF5-702C2ADC4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6F2E3B-DBAC-4FF3-9A7A-3E29C5B6D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9C145-5169-4067-B92B-E5CABFDCA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68EA2-70B1-415D-BF80-01D99DFCC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BE834-F5CA-40DD-A21E-26BFB7F4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132F4-5393-44A9-BAC3-79C2D0BD3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1C292-56C6-4E18-81DE-C777D9A2C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FF4C7-A6E7-4FAC-A24A-BD24AAF28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06DEA-CC5B-41CA-9BC1-C48EC7C2F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D4DB9-DFC9-47DC-9CA6-05FDD847CE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6572E-E9B3-483C-953E-49A1AD91D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52AB7-FD19-4B37-806E-463B0BEE6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4F8E2-0976-4D8F-9271-CB1FDF46E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3AAA-4490-4415-A5B1-3F0DB6F1B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85A52-7D9C-452E-844E-FD9DDC954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9451-7EA0-4CCE-8954-539F1AC0B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515F-03BF-4A8B-AEEA-CB76BA400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E2FB9-237F-4345-AD60-2D6065664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730B-001B-4BB2-B790-7FEE7940F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181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A8AB1-904C-46EC-A071-F2ECCA455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181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stioning Workshop</a:t>
            </a:r>
            <a:endParaRPr b="0" lang="en-US" sz="3600" spc="-1" strike="noStrike">
              <a:solidFill>
                <a:srgbClr val="000000"/>
              </a:solidFill>
              <a:latin typeface="Arial"/>
            </a:endParaRPr>
          </a:p>
        </p:txBody>
      </p:sp>
      <p:sp>
        <p:nvSpPr>
          <p:cNvPr id="83" name="PlaceHolder 2"/>
          <p:cNvSpPr>
            <a:spLocks noGrp="1"/>
          </p:cNvSpPr>
          <p:nvPr>
            <p:ph type="subTitle"/>
          </p:nvPr>
        </p:nvSpPr>
        <p:spPr>
          <a:xfrm>
            <a:off x="685800" y="5866920"/>
            <a:ext cx="8305920" cy="6858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 September 2008</a:t>
            </a:r>
            <a:endParaRPr b="0" lang="en-US" sz="2800" spc="-1" strike="noStrike">
              <a:solidFill>
                <a:srgbClr val="000000"/>
              </a:solidFill>
              <a:latin typeface="Arial"/>
            </a:endParaRPr>
          </a:p>
        </p:txBody>
      </p:sp>
      <p:sp>
        <p:nvSpPr>
          <p:cNvPr id="84" name=""/>
          <p:cNvSpPr/>
          <p:nvPr/>
        </p:nvSpPr>
        <p:spPr>
          <a:xfrm>
            <a:off x="304920" y="2057400"/>
            <a:ext cx="8381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Every day questioning, like ordinary walking, is a natural performance we all pick up. But good questioning, like running the 100-yard dash, is a technical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s – Risk Taking</a:t>
            </a:r>
            <a:endParaRPr b="0" lang="en-US" sz="3600" spc="-1" strike="noStrike">
              <a:solidFill>
                <a:srgbClr val="ffffff"/>
              </a:solidFill>
              <a:latin typeface="Arial"/>
            </a:endParaRPr>
          </a:p>
        </p:txBody>
      </p:sp>
      <p:sp>
        <p:nvSpPr>
          <p:cNvPr id="102"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333399"/>
                </a:solidFill>
                <a:latin typeface="Arial"/>
              </a:rPr>
              <a:t>Who asks the questions in a classroom?  In some classrooms there is an expectation that the teacher will be the question asker and students the question answerers.  The classroom culture needs to value questions and encourage students to be bot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Students will only take risks with their questions i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re is an atmosphere of tru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y have the skills to ask the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y feel that they need to know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y feel supported by you as the teac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ity:</a:t>
            </a:r>
            <a:r>
              <a:rPr b="0" lang="en-US" sz="2000" spc="-1" strike="noStrike">
                <a:solidFill>
                  <a:srgbClr val="333399"/>
                </a:solidFill>
                <a:latin typeface="Arial"/>
              </a:rPr>
              <a:t>  Ask your parents/ Pairs challenge – Tall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s – Self Monitoring</a:t>
            </a:r>
            <a:endParaRPr b="0" lang="en-US" sz="3600" spc="-1" strike="noStrike">
              <a:solidFill>
                <a:srgbClr val="ffffff"/>
              </a:solidFill>
              <a:latin typeface="Arial"/>
            </a:endParaRPr>
          </a:p>
        </p:txBody>
      </p:sp>
      <p:sp>
        <p:nvSpPr>
          <p:cNvPr id="104"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333399"/>
                </a:solidFill>
                <a:latin typeface="Arial"/>
              </a:rPr>
              <a:t>Students who question themselves over their work, actions, effort and attitude are often the students who manage to achieve their goals… These self monitoring questioning skills need to be learned and practic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t is ideal to teach these skills in an Inquiry context with the lesson structure and sequence is often less rigid and therefore students have to self monitor more frequently.  This can be done as a whole class structure, then a group process and lastly as a personal proce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Example questions 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What would I do differently next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What did I lear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Activity</a:t>
            </a:r>
            <a:r>
              <a:rPr b="0" lang="en-US" sz="2000" spc="-1" strike="noStrike">
                <a:solidFill>
                  <a:srgbClr val="333399"/>
                </a:solidFill>
                <a:latin typeface="Arial"/>
              </a:rPr>
              <a:t> – Reflection Strips/ Reflection cub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ources used:</a:t>
            </a:r>
            <a:endParaRPr b="0" lang="en-US" sz="3600" spc="-1" strike="noStrike">
              <a:solidFill>
                <a:srgbClr val="ffffff"/>
              </a:solidFill>
              <a:latin typeface="Arial"/>
            </a:endParaRPr>
          </a:p>
        </p:txBody>
      </p:sp>
      <p:sp>
        <p:nvSpPr>
          <p:cNvPr id="106"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 Big Book by Sally Godinho and Jeni Wils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novative Teachers Companion – Planning Book for 20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ebsi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hools.norfolk.govt.u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kills.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shop Format</a:t>
            </a:r>
            <a:endParaRPr b="0" lang="en-US" sz="3600" spc="-1" strike="noStrike">
              <a:solidFill>
                <a:srgbClr val="ffffff"/>
              </a:solidFill>
              <a:latin typeface="Arial"/>
            </a:endParaRPr>
          </a:p>
        </p:txBody>
      </p:sp>
      <p:sp>
        <p:nvSpPr>
          <p:cNvPr id="86" name="PlaceHolder 2"/>
          <p:cNvSpPr>
            <a:spLocks noGrp="1"/>
          </p:cNvSpPr>
          <p:nvPr>
            <p:ph/>
          </p:nvPr>
        </p:nvSpPr>
        <p:spPr>
          <a:xfrm>
            <a:off x="990360" y="1371240"/>
            <a:ext cx="80010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 Asking</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including types, wait time, asking further (Socratic Question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 headbands and 5 whys</a:t>
            </a:r>
            <a:endParaRPr b="0" lang="en-US" sz="16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 Answering</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including asking why differently, Points of View and perspectiv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 through my specs, questioning dice</a:t>
            </a:r>
            <a:endParaRPr b="0" lang="en-US" sz="16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for Planning/Investigation</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including independent investigations and inquiry</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guiding questions</a:t>
            </a:r>
            <a:endParaRPr b="0" lang="en-US" sz="16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Questions – Risk Taking</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including classroom environment, questioning techniqu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 ask your parents, pairs challenge</a:t>
            </a:r>
            <a:endParaRPr b="0" lang="en-US" sz="16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Questions – Self Monitoring</a:t>
            </a:r>
            <a:endParaRPr b="0" lang="en-US" sz="28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 includes reflection, self questioning and self management</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 activities – From the box – reflection str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killful questioner causes </a:t>
            </a:r>
            <a:br>
              <a:rPr sz="3200"/>
            </a:br>
            <a:r>
              <a:rPr b="1" lang="en-US" sz="3200" spc="-1" strike="noStrike">
                <a:solidFill>
                  <a:srgbClr val="ffffff"/>
                </a:solidFill>
                <a:latin typeface="Arial"/>
              </a:rPr>
              <a:t>students to do the following:</a:t>
            </a:r>
            <a:endParaRPr b="0" lang="en-US" sz="3200" spc="-1" strike="noStrike">
              <a:solidFill>
                <a:srgbClr val="ffffff"/>
              </a:solidFill>
              <a:latin typeface="Arial"/>
            </a:endParaRPr>
          </a:p>
        </p:txBody>
      </p:sp>
      <p:sp>
        <p:nvSpPr>
          <p:cNvPr id="88" name="PlaceHolder 2"/>
          <p:cNvSpPr>
            <a:spLocks noGrp="1"/>
          </p:cNvSpPr>
          <p:nvPr>
            <p:ph/>
          </p:nvPr>
        </p:nvSpPr>
        <p:spPr>
          <a:xfrm>
            <a:off x="1142640" y="1980720"/>
            <a:ext cx="80010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Focus their attention on the issue(s) at h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Integrate new ideas with prior knowled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Examine their values and belief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pply knowledge to life situ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Pursue areas of inqui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Explore ideas at various levels of think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Form habits of think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Verify and justify their posi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Transfer knowledge to other are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Reflect on what they are lear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s of Questions</a:t>
            </a:r>
            <a:endParaRPr b="0" lang="en-US" sz="3600" spc="-1" strike="noStrike">
              <a:solidFill>
                <a:srgbClr val="ffffff"/>
              </a:solidFill>
              <a:latin typeface="Arial"/>
            </a:endParaRPr>
          </a:p>
        </p:txBody>
      </p:sp>
      <p:sp>
        <p:nvSpPr>
          <p:cNvPr id="90" name="PlaceHolder 2"/>
          <p:cNvSpPr>
            <a:spLocks noGrp="1"/>
          </p:cNvSpPr>
          <p:nvPr>
            <p:ph/>
          </p:nvPr>
        </p:nvSpPr>
        <p:spPr>
          <a:xfrm>
            <a:off x="990360" y="1600200"/>
            <a:ext cx="8001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en and Closed questions – often called Convergent and Diverg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Closed – Yes/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pen – More extensive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t and Skinny questions – used in various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e.g. Skinny for quick in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t for depth, values and attitud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ctivity:  </a:t>
            </a:r>
            <a:r>
              <a:rPr b="0" lang="en-US" sz="3200" spc="-1" strike="noStrike">
                <a:solidFill>
                  <a:srgbClr val="333399"/>
                </a:solidFill>
                <a:latin typeface="Arial"/>
              </a:rPr>
              <a:t>Headba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 Asking – Wait time</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r>
              <a:rPr b="1" lang="en-US" sz="2800" spc="-1" strike="noStrike">
                <a:solidFill>
                  <a:srgbClr val="333399"/>
                </a:solidFill>
                <a:latin typeface="Arial"/>
              </a:rPr>
              <a:t>Wait Time” </a:t>
            </a:r>
            <a:r>
              <a:rPr b="0" lang="en-US" sz="2800" spc="-1" strike="noStrike">
                <a:solidFill>
                  <a:srgbClr val="333399"/>
                </a:solidFill>
                <a:latin typeface="Arial"/>
              </a:rPr>
              <a:t> refers to that period of teacher silence that follows the posing of a question </a:t>
            </a:r>
            <a:r>
              <a:rPr b="1" lang="en-US" sz="2800" spc="-1" strike="noStrike">
                <a:solidFill>
                  <a:srgbClr val="333399"/>
                </a:solidFill>
                <a:latin typeface="Arial"/>
              </a:rPr>
              <a:t>(Wait Time I)</a:t>
            </a:r>
            <a:r>
              <a:rPr b="0" lang="en-US" sz="2800" spc="-1" strike="noStrike">
                <a:solidFill>
                  <a:srgbClr val="333399"/>
                </a:solidFill>
                <a:latin typeface="Arial"/>
              </a:rPr>
              <a:t> as well as that following an initial student response </a:t>
            </a:r>
            <a:r>
              <a:rPr b="1" lang="en-US" sz="2800" spc="-1" strike="noStrike">
                <a:solidFill>
                  <a:srgbClr val="333399"/>
                </a:solidFill>
                <a:latin typeface="Arial"/>
              </a:rPr>
              <a:t>(Wait Time II).</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owe (1974) analyzed over 300 classroom tape recordings of classroom teachers and discovered a mean </a:t>
            </a:r>
            <a:r>
              <a:rPr b="1" lang="en-US" sz="2800" spc="-1" strike="noStrike">
                <a:solidFill>
                  <a:srgbClr val="333399"/>
                </a:solidFill>
                <a:latin typeface="Arial"/>
              </a:rPr>
              <a:t>Wait Time I</a:t>
            </a:r>
            <a:r>
              <a:rPr b="0" lang="en-US" sz="2800" spc="-1" strike="noStrike">
                <a:solidFill>
                  <a:srgbClr val="333399"/>
                </a:solidFill>
                <a:latin typeface="Arial"/>
              </a:rPr>
              <a:t> of one second and a mean </a:t>
            </a:r>
            <a:r>
              <a:rPr b="1" lang="en-US" sz="2800" spc="-1" strike="noStrike">
                <a:solidFill>
                  <a:srgbClr val="333399"/>
                </a:solidFill>
                <a:latin typeface="Arial"/>
              </a:rPr>
              <a:t>Wait Time II</a:t>
            </a:r>
            <a:r>
              <a:rPr b="0" lang="en-US" sz="2800" spc="-1" strike="noStrike">
                <a:solidFill>
                  <a:srgbClr val="333399"/>
                </a:solidFill>
                <a:latin typeface="Arial"/>
              </a:rPr>
              <a:t> of .9 seconds.  (These need to be over 3 seconds to give students time to fully process).</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 Asking – Socratic Questions</a:t>
            </a:r>
            <a:endParaRPr b="0" lang="en-US" sz="3200" spc="-1" strike="noStrike">
              <a:solidFill>
                <a:srgbClr val="ffffff"/>
              </a:solidFill>
              <a:latin typeface="Arial"/>
            </a:endParaRPr>
          </a:p>
        </p:txBody>
      </p:sp>
      <p:sp>
        <p:nvSpPr>
          <p:cNvPr id="94" name="PlaceHolder 2"/>
          <p:cNvSpPr>
            <a:spLocks noGrp="1"/>
          </p:cNvSpPr>
          <p:nvPr>
            <p:ph/>
          </p:nvPr>
        </p:nvSpPr>
        <p:spPr>
          <a:xfrm>
            <a:off x="990360" y="1294920"/>
            <a:ext cx="800100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1800" spc="-1" strike="noStrike">
                <a:solidFill>
                  <a:srgbClr val="333399"/>
                </a:solidFill>
                <a:latin typeface="Arial"/>
              </a:rPr>
              <a:t>Socratic questions refer to questions that seek clarification or ‘draw out’ deeper responses.  The questioning asks students to think more about what exactly they are asking or thinking ab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Some Socratic question starters inclu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exactly does that mea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How does that relate t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is the nature o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re you saying… 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Can you rephrase that, pleas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You seem to be assum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would happen i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How do you know thi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y is that happen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o benefits from thi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y is it better tha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s of Socratic Question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eptual Clarification</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y are you saying that?”  or “Are you saying… or …?”</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ing Assumptions</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You seem to be assuming…?” or “Do you agree or disagree with..?”</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ing Rationale, Reasons and Evide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y is this happening?” or “What do you think cause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ing Viewpoints and Perspectives</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o benefits from this?” or “What would…say about thi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 Implications and Consequences</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Then what would happen?” or “How could…be used to…?”</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s about the Question</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at does that mean?” or “Why do you think I asked this question?”</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ity:</a:t>
            </a:r>
            <a:r>
              <a:rPr b="0" lang="en-US" sz="2400" spc="-1" strike="noStrike">
                <a:solidFill>
                  <a:srgbClr val="333399"/>
                </a:solidFill>
                <a:latin typeface="Arial"/>
              </a:rPr>
              <a:t>  5 Wh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 Answering</a:t>
            </a:r>
            <a:endParaRPr b="0" lang="en-US" sz="3600" spc="-1" strike="noStrike">
              <a:solidFill>
                <a:srgbClr val="ffffff"/>
              </a:solidFill>
              <a:latin typeface="Arial"/>
            </a:endParaRPr>
          </a:p>
        </p:txBody>
      </p:sp>
      <p:sp>
        <p:nvSpPr>
          <p:cNvPr id="98" name="PlaceHolder 2"/>
          <p:cNvSpPr>
            <a:spLocks noGrp="1"/>
          </p:cNvSpPr>
          <p:nvPr>
            <p:ph/>
          </p:nvPr>
        </p:nvSpPr>
        <p:spPr>
          <a:xfrm>
            <a:off x="990360" y="12952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king “why” differently:</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hen students are asked “why?” outside of school, often it is a situation in which someone believes the student has done something wrong e.g. “Why did you push Jenny?”  Fore this reason, many students react defensively as soon as they hear the word ‘why’ at the beginning of a question.  Find other ways of asking ‘why?’ by considering prompts such 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might the reasons behi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ill you tell me more abou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How do you think that…?</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ints of View and Perspectiv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udents need to be able to consider more than there own point of view or perspective on an issue and this takes much practice and skill and often shows students ability to consider their own opin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ity:</a:t>
            </a:r>
            <a:r>
              <a:rPr b="0" lang="en-US" sz="2400" spc="-1" strike="noStrike">
                <a:solidFill>
                  <a:srgbClr val="333399"/>
                </a:solidFill>
                <a:latin typeface="Arial"/>
              </a:rPr>
              <a:t>  Wear my Shoes/See through my spe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s for Planning/Investigation</a:t>
            </a:r>
            <a:endParaRPr b="0" lang="en-US" sz="3600" spc="-1" strike="noStrike">
              <a:solidFill>
                <a:srgbClr val="ffffff"/>
              </a:solidFill>
              <a:latin typeface="Arial"/>
            </a:endParaRPr>
          </a:p>
        </p:txBody>
      </p:sp>
      <p:sp>
        <p:nvSpPr>
          <p:cNvPr id="100"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rial"/>
              </a:rPr>
              <a:t>Students ability to ask effective and appropriate questions is most obvious within an Integrated Inquiry context when they need to be able to work within a group or independently through and investigation process.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1600" spc="-1" strike="noStrike">
                <a:solidFill>
                  <a:srgbClr val="333399"/>
                </a:solidFill>
                <a:latin typeface="Arial"/>
              </a:rPr>
              <a:t>Key questions to get start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do I already kn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is/are my key ques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How do I plan to answer my ques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are my personal learning goa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Key questions to keep go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could I do bett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do I need to do to achieve my goa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Key questions for further learn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How have my ideas chang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How well do I think I w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new learning goals can I 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39:52Z</dcterms:created>
  <dc:creator>Kim Scott</dc:creator>
  <dc:description/>
  <cp:keywords/>
  <dc:language>en-US</dc:language>
  <cp:lastModifiedBy>Kim Scott</cp:lastModifiedBy>
  <dcterms:modified xsi:type="dcterms:W3CDTF">2008-09-18T22:29:43Z</dcterms:modified>
  <cp:revision>11</cp:revision>
  <dc:subject/>
  <dc:title>Questioning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